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9087"/>
        <c:axId val="4159401"/>
      </c:barChart>
      <c:catAx>
        <c:axId val="4119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9401"/>
        <c:crosses val="autoZero"/>
        <c:auto val="1"/>
        <c:lblAlgn val="ctr"/>
        <c:lblOffset val="100"/>
        <c:noMultiLvlLbl val="0"/>
      </c:catAx>
      <c:valAx>
        <c:axId val="4159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9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147-5F60-4B12-823A-636EEC01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B1C-06FE-40BE-BD8D-458656F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D7A-58F7-4BB5-A186-D783C871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390-F236-4FE5-BCCB-3F91A2AD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983-D1C3-4FBB-AE9C-6A74222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EA4-1B98-496A-A988-21F29440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EA8-6EA0-4836-AE70-F898C708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207-61B4-4270-A69A-E991BBB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BA5-8A3D-49D3-AC6C-3A265EF5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62A-4D2D-4AC5-886E-89D3FCD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45E-B581-40CE-8A1D-2DA16D2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7B3-5129-4B52-9AD1-2466309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6305-2434-471F-8809-1A89CD18E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