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72195"/>
        <c:axId val="79570800"/>
      </c:barChart>
      <c:catAx>
        <c:axId val="256721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70800"/>
        <c:crosses val="autoZero"/>
        <c:auto val="1"/>
        <c:lblAlgn val="ctr"/>
        <c:lblOffset val="100"/>
        <c:noMultiLvlLbl val="0"/>
      </c:catAx>
      <c:valAx>
        <c:axId val="795708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721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773-72D3-4772-AB46-79AE64E7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98F3-A1CF-4B91-BD29-0CE7350A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3BD-741D-44FA-9D88-82C6147C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5D25-5A5C-47CC-9B6A-B68F6A4F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7C94-55B9-4D90-96E4-707D74A4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ED6A-3E3E-47B5-97FB-2FE94D04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664D-68B8-4AAF-9E20-F3B145C1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4A8-F514-44C3-BF2A-4DC7B60A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FD6-3C91-48FE-8DF6-A28B351B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137-EB90-4185-A961-3A28BBA4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B358-5F79-4451-8EAF-22C2B14A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D352-9EF6-43D6-AF33-BEE71210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B9912-AD6A-48E6-98D6-F469C54E00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