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12846"/>
        <c:axId val="47550319"/>
      </c:barChart>
      <c:catAx>
        <c:axId val="17212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50319"/>
        <c:crosses val="autoZero"/>
        <c:auto val="1"/>
        <c:lblAlgn val="ctr"/>
        <c:lblOffset val="100"/>
        <c:noMultiLvlLbl val="0"/>
      </c:catAx>
      <c:valAx>
        <c:axId val="47550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12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8AD-749D-4B70-B887-74BC6A30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276-2CC1-4D2B-A70F-36DC0E54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2B8-EDBD-4EC0-A890-3FC44218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15B-8B66-4DD3-8A8C-22860460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22C-F379-4FEE-8161-B6BE3A23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FEE-B949-4F66-8A01-48245EAB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EA0-9A29-4276-8A96-07FAD95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DCB-836E-46E9-833E-2400BE40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6FB-17A8-4482-9D4D-383AEC74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3BC-65B8-4C42-B209-05AB65B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4E0-DC94-41A6-9F57-D3A5BF2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2C3-FB77-4C62-8618-749B2B0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550A5-177C-4D51-AB32-87B6064DA6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