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349280" y="965160"/>
            <a:ext cx="50720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456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38880"/>
            <a:ext cx="876456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3888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53888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4760" y="196380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8280" y="196380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3888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4760" y="453888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8280" y="4538880"/>
            <a:ext cx="2822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0" algn="ctr">
              <a:lnSpc>
                <a:spcPts val="364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6011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9520" indent="-209520" algn="ctr">
              <a:lnSpc>
                <a:spcPts val="36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3888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53888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38880"/>
            <a:ext cx="876456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48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ts val="3648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ts val="3648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2800" indent="-21132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2800" indent="-211320">
              <a:lnSpc>
                <a:spcPts val="3648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2800" indent="-211320">
              <a:lnSpc>
                <a:spcPts val="3648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docs.neuroinf.de/PloneBook/ch14.rs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mysite.com/" TargetMode="External"/><Relationship Id="rId2" Type="http://schemas.openxmlformats.org/officeDocument/2006/relationships/hyperlink" Target="https://www.mysite.com/" TargetMode="External"/><Relationship Id="rId3" Type="http://schemas.openxmlformats.org/officeDocument/2006/relationships/hyperlink" Target="http://mysite.com/" TargetMode="External"/><Relationship Id="rId4" Type="http://schemas.openxmlformats.org/officeDocument/2006/relationships/hyperlink" Target="http://localhost:3128/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ke Plone Fast!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5520" indent="0" algn="ctr">
              <a:lnSpc>
                <a:spcPts val="3648"/>
              </a:lnSpc>
              <a:buNone/>
              <a:tabLst>
                <a:tab algn="l" pos="0"/>
                <a:tab algn="l" pos="42552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cccccc"/>
                </a:solidFill>
                <a:latin typeface="Times New Roman"/>
                <a:ea typeface="msmincho"/>
              </a:rPr>
              <a:t>Use CacheFu to Make Your Site Fly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5520" indent="0" algn="ctr">
              <a:lnSpc>
                <a:spcPct val="116000"/>
              </a:lnSpc>
              <a:buNone/>
              <a:tabLst>
                <a:tab algn="l" pos="0"/>
                <a:tab algn="l" pos="42552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5520" indent="0" algn="ctr">
              <a:lnSpc>
                <a:spcPct val="116000"/>
              </a:lnSpc>
              <a:buNone/>
              <a:tabLst>
                <a:tab algn="l" pos="0"/>
                <a:tab algn="l" pos="42552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cccccc"/>
                </a:solidFill>
                <a:latin typeface="Times New Roman"/>
                <a:ea typeface="msmincho"/>
              </a:rPr>
              <a:t>Geoff Davis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5520" indent="0" algn="ctr">
              <a:lnSpc>
                <a:spcPct val="116000"/>
              </a:lnSpc>
              <a:buNone/>
              <a:tabLst>
                <a:tab algn="l" pos="0"/>
                <a:tab algn="l" pos="42552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cccccc"/>
                </a:solidFill>
                <a:latin typeface="Times New Roman"/>
                <a:ea typeface="msmincho"/>
              </a:rPr>
              <a:t>geoff@geoffdavis.ne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25520" indent="0" algn="ctr">
              <a:lnSpc>
                <a:spcPct val="116000"/>
              </a:lnSpc>
              <a:buNone/>
              <a:tabLst>
                <a:tab algn="l" pos="0"/>
                <a:tab algn="l" pos="42552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cccccc"/>
                </a:solidFill>
                <a:latin typeface="Times New Roman"/>
                <a:ea typeface="msmincho"/>
              </a:rPr>
              <a:t>Plone Symposium, 2006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ransparenc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is almost completely transpar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Fu caches content views (not everything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Big problem: cache needs to be purged when content change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Fu takes care of this for you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hen you update your content, changes will appear on your site immediately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A few exceptions; we will discuss thes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Need to understand how things work to make this work for you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Very straightforward in most case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ow does CacheFu work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is pretty complicat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deas are straightforwar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frastructure in Zope for implementing them is no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ots of partial solutions that step on each oth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iggest value-add: (relatively) seamless integra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0">
              <a:lnSpc>
                <a:spcPct val="11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ot a perfect solu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opefully will provide a better way to think about the problem in Zope 3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0">
              <a:lnSpc>
                <a:spcPct val="11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hy is Plone slow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1600" y="1599840"/>
            <a:ext cx="876924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ultiple reasons 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order of decreasing importanc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age render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ZServ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etwork latenc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nnection setup times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e will attack each problem separatel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ultiple approaches to some problem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peeding things up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age Render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ots of benchmark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iggest time sink is TAL render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t much we can do about it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XCEPT not render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 pages to reduce rendering ti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veral different way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peeding things up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Server sluggishnes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n't use ZServer when we don't have t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Server is smar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n't need brains to serve up static content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t up fast proxy cache (squid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roxy cache handles static stuff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ZServer handles things that require some smar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peeding things up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twork latenc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ell browsers not to ask for things they don't ne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ing!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n't re-send pages when you don't have t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ore caching!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mpress conten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gzip HTML page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S / CSS whitespace removal related trick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peeding things up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nection setup tim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mbine multiple CSS files into on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mbine multiple JS files into on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revent unnecessary reques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 as much as possible (but no more) in the clien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ing, Caching, and more Caching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mmon theme in all approaches: Cache!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veral different types of cach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in server memor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in proxy c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in client's brows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Unconditional” client-side caching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Browser always uses local fil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onditional” client-side caching (</a:t>
            </a:r>
            <a:r>
              <a:rPr b="1" lang="en-GB" sz="2400" spc="-1" strike="noStrike">
                <a:solidFill>
                  <a:srgbClr val="ffff66"/>
                </a:solidFill>
                <a:latin typeface="Times New Roman"/>
              </a:rPr>
              <a:t>NEW!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Browser checks with server before using local fil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ore techniqu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0">
              <a:lnSpc>
                <a:spcPts val="3648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ill touch on a few more approaches, but not in depth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une the ZODB/ZEO object cach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peeds up Zserv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oad balanc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duces page rendering times under loa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ptimize your co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duces page rendering tim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intermediate code resul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duces page rendering tim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150840"/>
            <a:ext cx="860904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rategy 1: Cache static content in brows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0960" y="1676160"/>
            <a:ext cx="87724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hen user visits site, content stored in their browser's cac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TTP headers tell how long to c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ubsequent requests pulled from local cache rather than server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ost useful for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static content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that is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viewed frequentl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mages, CSS, J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verview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11360" indent="-60660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ig Pictur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1104840" indent="-5302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he Problem: Plone is slow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1104840" indent="-5302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he Solution: CacheFu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1104840" indent="0">
              <a:lnSpc>
                <a:spcPct val="116000"/>
              </a:lnSpc>
              <a:buNone/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711360" indent="-60660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ow does CacheFu work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1104840" indent="-5302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Key concept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1104840" indent="-5302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Gory detail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1104840" indent="0">
              <a:lnSpc>
                <a:spcPct val="116000"/>
              </a:lnSpc>
              <a:buNone/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711360" indent="-60660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qui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711360" indent="0">
              <a:lnSpc>
                <a:spcPts val="3648"/>
              </a:lnSpc>
              <a:buNone/>
              <a:tabLst>
                <a:tab algn="l" pos="0"/>
                <a:tab algn="l" pos="739800"/>
                <a:tab algn="l" pos="1197000"/>
                <a:tab algn="l" pos="1654200"/>
                <a:tab algn="l" pos="2111400"/>
                <a:tab algn="l" pos="2568600"/>
                <a:tab algn="l" pos="3025800"/>
                <a:tab algn="l" pos="3483000"/>
                <a:tab algn="l" pos="3940200"/>
                <a:tab algn="l" pos="4397400"/>
                <a:tab algn="l" pos="4854600"/>
                <a:tab algn="l" pos="5311800"/>
                <a:tab algn="l" pos="5769000"/>
                <a:tab algn="l" pos="6226200"/>
                <a:tab algn="l" pos="6683400"/>
                <a:tab algn="l" pos="7140600"/>
                <a:tab algn="l" pos="7597800"/>
                <a:tab algn="l" pos="8055000"/>
                <a:tab algn="l" pos="8512200"/>
                <a:tab algn="l" pos="8969400"/>
                <a:tab algn="l" pos="94266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TTP header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nderstand HTTP headers to do caching righ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ood tutorial at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ttp://www.web-caching.com/mnot_tutorial/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TTP header basic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368000"/>
            <a:ext cx="877248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ill use both HTTP 1.0 and 1.1 headers in case ancient clients visit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TTP 1.0 head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xpires: [date and time]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Browser will cache if date is in the futur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ast-Modified: [date and time]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omplicated heuristics for image caching based on Last-Modified header absent more explicit inf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he longer your image has been unchanged, the longer the browser will cache i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eadache: both require correct client clock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TTP header basic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TTP 1.1: much more fine-grained contro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-Control: [lots of options]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ost important for our purposes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max-age=N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2800" indent="-21132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browser will cache your content for N seconds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2800" indent="-21132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preferable to Expires because makes no assumptions about client clock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2800" indent="-21132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tells browser OK to cache even when it might not otherwis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-Control options not to include (for now)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no-cache, no-store, must-revalidate, private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tting HTTP header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0320" y="1685880"/>
            <a:ext cx="877248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cceleratedHTTPCacheManag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art of CMF - sets cache headers for skin elem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sed by Plone OOTB to set headers for static stuff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TTPC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ssociate template / image / file with HTTPCache using metadata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=HTTPCache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ne of the 10 places that headers get tweak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eFu and header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7692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consolidates header-sett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ost headers set in CachingPolicyManag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llows for much finer-grained control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We will need it!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replaces HTTPCache with a PolicyHTTPCacheManag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Farms HTTPCache's old job out to CachingPolicyManag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ts better default cache timeou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24 hours instead of 1 hou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ingPolicyManag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ake a look in ZMI: caching_policy_manag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tails: Definitive Guide to Plone, Chapter 14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docs.neuroinf.de/PloneBook/ch14.rs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tainer full of header setting polici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ach policy has a predicat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ages to be rendered walk through policies until they hit a true predicate, then headers are se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You will not need to look in here mu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ost of policy-choosing logic is elsewher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ing Polic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76924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assigns the cache_in_browser policy to items associated with HTTPCache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_in_browser policy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key items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last-modified = python:object.modified(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ax-age = 86400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86400 secs = 24 hours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-max-age = 86400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instructions to squid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Use cached items even in situations when maybe not OK (e.g. when authorized, possibly with https connections, etc)</a:t>
            </a:r>
            <a:br>
              <a:rPr sz="2000"/>
            </a:b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ing in Brows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_in_browser policy gives us the least contro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nce something is in the browser, it is stuck ther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rowser won't check for anything newer for 24 hours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akes a big load off server, thoug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afe to use this policy for things that rarely chang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f you plan to change stuff, consider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lower max-age time limit the day befor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crease again when you are don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sting the header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iveHTTPHeaders plug-in for FireFox / Mozill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Your new best frien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ttp://livehttpheaders.mozdev.org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valuable for testing cach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hows all request and response headers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et's take a loo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LiveHTTPHeader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63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ips: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lear your browser cache manually before starting a sess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dd a favicon.ico file to the Zope root to avoid 404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ow fast is your site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1606320"/>
            <a:ext cx="877248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implest measurement: Apache benchmark (ab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0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mes with Apache 2.0 distribu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0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imulates lots of users hitting a single page sequentially and / or simultaneousl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0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easures pages served / secon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imitations of ab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0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esn't load associated images, CSS, JS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0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S and CSS matter a lot!  ~50% of your bandwidth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0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esn't know about browser caching, etc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etter benchmarks feasible with Selenium?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sourceRegistri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ost of the content associated with HTTPCache is imag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JS and CSS used to be, but no more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esourceRegistries are the new way to g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 the ZMI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portal_cs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portal_javascript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et's take a look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sourceRegistri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ook at portal_cs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ots of CSS files register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ine in main_template pulls in all registered CSS in the page &lt;head&gt; sec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ption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nabled: lets you turn on/off file inclus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AL condition: lets you conditionally inclu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erging allowed: can file be merged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ing allowed: used for RR's internal caching (which we bypass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sourceRegistri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R serves up a set of merged CSS files with URLs like thi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ortal_css/Default%20Skin/ploneStyles1234.cs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kin name is in the URL so that different skins have distinct URL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Avoids user retrieving cached css file for one skin when viewing a different skin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umber in filename is version numb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every time you hit Save button, version number change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sourceRegistri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ersion number is VERY IMPORTA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eans you can cache stuff forever in brows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hen you change your CSS, hit Sav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erged filename change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Pages now point to new CSS file; user won't see the old one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SS and JS are ~1/2 of bandwidth on a typical sit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f you have repeat visitors, long-time caching is grea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sourceRegistri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876924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dded bonus: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R 1.3 does safe CSS and JS compress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(Plone 2.1.2 ships with RR 1.2)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deal solution: serve gzipped CSS / J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uggy in many browsers, unfortunatel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R instead strips whitespace, other trick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afe” compression cuts CSS and JS by about 25% each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ore aggressive compression cuts JS by ~50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R does this on the fly each reques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Fu caches the results so RR only compresses onc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sourceRegistri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bypasses RR's caching machine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outes JS and CSS through caching_policy_manager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licy used is cache_file_forev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SS and JS can live on the browser for a yea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ally important to remember to Save!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sourceRegistri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ip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Files have to be mergeable for renaming to work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se debug mode for development and debugg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Files don't get merged or cache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ages cached in squid may refer to the old CSS / JS fil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f you make big CSS/JS changes and want them to appear immediately, you will also have to purge squi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purging script (purgesquid) is supplie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Quick Recap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84000"/>
            <a:ext cx="87692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ep 1: Cache your static content in the browser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ssociate files and images in your skins with HTTPC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Use cache=HTTPCache in the .metadata fil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Fu will do the rest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egister your CSS and JS with portal_css/portal_j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ake them mergeabl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ave when css/js chang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Fu will take care of caching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Quick Recap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eep limitations in min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nly helps if people load the URL more than once!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Great for CSS / JS / images that appear on all pages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nce it's on the browser, can't change until it expir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Unless you are using something cool like RR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oxy cach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enefit of browser cache: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very request served by cache is one less request served by ZServer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rawback of browser cach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n't invalidate stale content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lternative for content that changes more frequently: use a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proxy cach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ow fast is Plone out of the box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b = Apache benchmar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art of the Apache 2.0 distribution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b -n 50 </a:t>
            </a:r>
            <a:r>
              <a:rPr b="0" lang="en-GB" sz="3200" spc="-1" strike="noStrike">
                <a:solidFill>
                  <a:srgbClr val="ccccff"/>
                </a:solidFill>
                <a:latin typeface="Times New Roman"/>
              </a:rPr>
              <a:t>http://localhost:8080/myplonesite/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50 requests for front pag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Key number to look for is “Requests per second:” (average; median is better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rategy 2: Proxy Caching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dea: put a fast but dumb proxy cache in front of Zop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xy cache serves up (static) content, keeps load off Zop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ope can tell proxy cache when content expires so you don't serve up stale cont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920" y="5521320"/>
            <a:ext cx="9524880" cy="138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oxy cach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355760"/>
            <a:ext cx="87692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ecause it is server side, cached content is shar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Browser cache only helps if 1 client requests same resource twice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Proxy cache helps if 2 (anonymous) people request same thing even if they are different people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Much less help when content is personalized, though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Our strategy: cache anonymous content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Possible to expand if content is personalized based on, say, roles instead of username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e6e6e6"/>
                </a:solidFill>
                <a:latin typeface="Times New Roman"/>
              </a:rPr>
              <a:t>Will talk more about personalized content later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one and content caching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1547280"/>
            <a:ext cx="877248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y default, Plone sends no Cache-Control header, which means that pages won't be cached in general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nything using main_template has headers set in global_cache_headers.pt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 CMFPlone/skins/plone_templat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ontains Cache-Control: no-cach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Fu overrides, uses caching_policy_manager instea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lone and content caching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ant to override default headers for a single page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implest way: call request.RESPONSE.setHeader in body of template. 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verrides previous header, affects only template in question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ay get stomped by caching_policy_manager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arder way: create a caching_policy_manager polic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(You won't need to do this in general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ntent cache header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oal is to cache anonymous content view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ot much point caching personalized view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t enough hits per cached page to justif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Fills up the cache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ow do we control content cache headers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ith a caching policy, of cours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ntent views will use 2 different polici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_in_squid if you are anonymou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_in_memory if you are authenticate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ntent cache polici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7692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eave content in squid; purge as need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_in_squi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x-age = 0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Don't cache in the browser!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-max-age = 86400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 in squid for up to 24 hours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eep out of squi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_in_memo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on't cache in browser or squi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x-age = 0, s-max-age = 0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ow policies are assigne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ow does Zope know what caching policies to apply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setup tool controls everything: The One R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tegrates the 7 different product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ice portlet – let's look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ite setup -&gt; Cache Configuration Tool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in tab controls relationship with squi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alk about that later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ext tabs control policy assignm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e configuration tool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hen an object looks for headers, it gets sent to CacheSetup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Setup walks through assignment policies to figure out what the appropriate caching policy is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TTPCache cont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ssigns all content associated with HTTPC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oth anonymous and authenticated users get “Cache in browser” polic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opefully reasonably self-explanator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e configuration tool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xt tab: Plone content typ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ave an object + template in hand. Does the policy apply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ook at content type – is it in the list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ook at templat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s it a default view for the object?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s it on the list of templates?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ook at request – is there anything that should stop caching?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e configuration tool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k, so the configuration policy applies, now what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eed to figure out a caching polic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2 method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se policy specified for anonymous or authenticated user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Get the policy ID from an external scrip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 default views of main Plone content object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in squid for anonymous users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in memory for authenticated user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Using ab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68160"/>
            <a:ext cx="876924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ip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ke sure you add the trailing “/” to the URL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e sure your site has “warmed up” before runn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2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Lots of one-time startup expense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ZODB needs to load objects into memory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pages templates need to be parsed, etc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2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un twice and look only at second result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ke sure Zope is not in debug mod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e configuration tool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or default views of main Plone container object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in memory for anonymous and authenticated users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eason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n purge content objects when they change, BU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ntainer views change when any of their contents chang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o either all content has to purge parent OR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ust cache in RAM and work out purging another way (will discuss later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ing Your View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ecommended method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dd a new assignment polic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n portal_cache_settings, add a new content polic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lect your content typ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dicate that default views should be cach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hoose type of caching policy for anonymous and authenticat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nfigure ETags (will discuss later – default Plone Etags are good starting point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urging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7692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hat happens when content changes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MFSquidTool purges the objec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Setup configures squidtool so you don't have t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onkey patches index, unindex, reindex, etc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hen an object is created / modified / deleted, cache is purg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 configuration tool figures out the right pages to purg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ypically just the views and templates specifi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f you want extras, you can add a scrip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urging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7692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lone content types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ses script to purge extra pag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f you modify the file “myfile”, need to purge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default views: myfile, myfile/, myfile/view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also myfile/downloa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f you modify the image “myimg”, need to purg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default views: myimg, myimg/, myimg/view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also myimg/image_thumbnail, etc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cript supplies the extra /download, image_thumbnail, etc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oxy Cach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qui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free, open source; runs on Linux, Windows, OSX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ttp://www.squid-cache.org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uper fast (~400 requests/second on mid-range box)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ome (but probably not all) of CacheFu strategy should work with IIS + Enfold Enterprise Prox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ttp://www.enfoldsystems.com/Products/EEP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Why not Apache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9840" y="1466640"/>
            <a:ext cx="87706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Apache + mod_cach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0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Lots of documentation about using Apache for caching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0">
              <a:lnSpc>
                <a:spcPct val="10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Problem: mod_cache doesn’t support purging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0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No easy way to delete stale pages from cache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hould be possible to modify CacheFu to get some (but not full) benefit from Apach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1-2 days work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ponsorship welcome!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Using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cellent documentation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vailabl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(Only need to read a few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hapters, not whole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ook)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48320" y="1704960"/>
            <a:ext cx="36194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Using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quid has a reputation of being complex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oblem is that default squid.conf is 3500 lin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99% documenta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ost options don't apply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contains sample squid.con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137 lines (including comments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traightforward to configur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40880" y="326520"/>
            <a:ext cx="86058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quid configur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has sample configurations fo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quid by itself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quid behind Ap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useful if you need to wire together different web apps and want to use mod_rewrite, etc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tup is similar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ick the appropriate setup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nfiguring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o to the directory for the configuration you have chose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quid_direct or squid_behind_apache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dit squid.conf and follow the instruct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alkthrough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dit redirector_class.py and set up the redirection rul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yntax is like mod_rewrite for Ap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alkthrough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sul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~3.5 requests/sec on my laptop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LOW!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ront page is only part of the problem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lso have ~200K of CSS / JS / images!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Quick tip: If you have an English-only site, delete PlacelessTranslationServi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oosts speed to 4 req/sec (~15%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tting up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87692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py everything (squid.conf, all .py files) to /etc/squi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ire up squid!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tting up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8769240" cy="53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ip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heck file permission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quid must have read access to squid.conf, iRedirector.py, squidAcl.py, and redirector_class.p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quid must have execute access to iRedirector.py and squidAcl.p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quidAcl.py and iRedirectory.py get called directl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First line is #!/usr/bin/python -Ou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f your python is not at /usr/bin/python, change the path to python in the first lines of these file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Make sure you can run both of these from the command line without getting an exception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tting up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ore tip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While debugging your squid configuration, run squid from the command line and echo errors to the console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/usr/sbin/squid -d1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o stop squid from the command line, us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/usr/sbin/squid -k kil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o reconfigure squid after modifying squid.conf, use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/usr/sbin/squid -k reconfigur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se the CacheFu purgesquid script to purge the c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tting up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ore tip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ook at squid's logs if you have problem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/var/log/squid/cache.log – squid messages about its internal stat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If you notice all  squid's external processes are dying, it probably means that you have a problem with your python path in iRedirector.py or squidAcl.py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0800" indent="-20952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Times New Roman"/>
              </a:rPr>
              <a:t>Try running these python files from the command line to see what's going on.  Use “./iRedirector.py”, NOT “python iRedirector.py”</a:t>
            </a:r>
            <a:endParaRPr b="0" lang="en-US" sz="20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/var/log/squid/access.log – squid messages about cache hits and misse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tting up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ip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Redirector.py does URL rewrit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ses redirector_class.py as a help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Both iRedirector.py and redirector.py do debug logging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Edit them and replace “debug = 0” with “debug = 1” if you have problem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tting up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nce you have squid working, It Just Work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tup can be a headache the first tim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Tips should help a lot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nfiguring CacheFu for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7692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nce squid runs, tell Zope about 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o to first pane of Cache configuration too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dicate URLs of your sit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clude 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all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URLs, e.g.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mysite.com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s://www.mysite.com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mysite.com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etc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f squid behind apache, URL of squid (typically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localhost:3128</a:t>
            </a: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ary header and gzipping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t the Vary header (default should be OK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ary header tells squid to store different versions of content depending on the values of the headers specifi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Vary: Accept-Encoding for gzip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ne version for browsers that accept gzipped conten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ne version for those that don'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lect gzipping method (default is recommended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Gzipping cuts down network latenc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ntent cached in gzipped form so only gzip onc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Dem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et's try it out!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ip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se LiveHTTPHeaders to see if getting cache hi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ook at headers: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X-Cache: HIT or X-Cache: MIS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f you don't see any HITs, clear your browser cache manually and try agai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f that fails, something may be wro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rategy 3: Load Balancing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ope Enterprise Objects let you do load balancing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ZEO server = essentially an object databas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ZEO client executes your python scripts, serves up your content, etc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ZEO comes with Zop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t up multiple ZEO clients on multiple machines or multiple processors (single instance of Zope won't take much advantage of multiple processors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eFu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1600" y="1458720"/>
            <a:ext cx="876924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ownload CacheFu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ot quite released yet – hopefully this week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2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vn co https://svn.plone.org/svn/collective/CacheFu/branches/geoffd-cachefuageddon/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py 4 packages to my Products directory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2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acheSetup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2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PageCacheManager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2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PolicyHTTPCacheManager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20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MFSquidToo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0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stall CacheSetup with QuickInstaller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tting up ZE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You can transform a Zope site into a ZEO site using the mkzeoinstance.py script in ~Zope/bin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hange a few lines in ~instance/etc/zope.conf and ~instance/etc/zeo.conf and you are good to go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e Definitive Guide to Plone, Chapter 14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ttp://docs.neuroinf.de/PloneBook/ch14.rst 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quid + ZEO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ain idea: give your proxy cache lots of places from which to get content it can't serv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quid can in theory take care of load balanc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 would use pound instea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ound = load-balancing proxy designed for Zop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ttp://www.apsis.ch/pound/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ut pound between squid and ZEO cli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ig advantage if you use sessions – pound keeps client talking to same back-end serv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esource requirement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1600" y="1415520"/>
            <a:ext cx="8769240" cy="54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y site: 20K page views/da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1 squid instance, 1 ZEO clien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2.4 GHz P4 + 1G RAM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lone.org: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1 squid instance + 2 ZEO clien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2x 3GHz Xeon box with 2 GB of RAM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ulk of load is from authenticated client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on't need that much power, especially if most clients are anonymou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quid is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very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effici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ain requirement is lots of memory for Zop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rategy 4: Use Entity Tag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Tags let us do smart browser cach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he idea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Tag = arbitrary string, should have the property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f I have 2 files with same ETag, files should be the sam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nd an ETag to browser with a pag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rowser caches the pag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Before rendering from cache, browser sends ETag of cached page to serv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rver responds with Status 304 + no page (meaning cached stuff OK) or Status 200 + new pag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ETag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What are good ETags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pends on what we are serving up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ample: Image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2 images with same URL and same modification time are probably the sam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Tag for images, files can just be last modified tim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Tags not really useful for files and images, since we can do a conditional request based on modification tim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ETag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ample: docum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Tag for document should include modification tim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hat lets us distinguish different versions of the doc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hould depend on authenticated memb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Since we have personalization in document view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hould depend on state of the navtree, other portle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etting ETag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provides an easy way to generate ETa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o to policy for Plone content in Cache configuration portle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ook at ETag sec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gredients for building an Eta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Use member ID (personalization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ime of last catalog modification (covers age of document + navtree state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EQUEST vars: month, year, orig_query (covers state of calendar portlet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Time out after 3600 sec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ETag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Tags useful for 2 thing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First, allows for smart conditional browser cach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f document changes or something in document's containing folder changes or calendar changes or logged in member changes, ETag will chang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cond, provides a useful cache key for a RAM c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ageCacheManag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76924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ageCacheManager stores full pages + headers in a memo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ses ETags as cache key, so ETag is requir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ETags are set using CachingPolicyManager policy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f template uses Cache configuration tool to generate an ETag and policy is not “Do not cache”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automatically associates templates that have ETags generated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ontent views automatically cached in memo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ageCacheManag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Try it out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ook for X-Pagecache: H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eFu Simple Benchmark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636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epeat the ab test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Get ~35 req/secon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2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~10x faster; also improves JS, CSS, and imag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hings you should know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ome things to watch out for when digging deep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f browser has a page in hand, will do a conditional GE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GET /fo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f-None-Match: ETAG-OF-PAGE-IN-HAN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f-Modified-Since: LAST-MOD-OF-PAGE-IN-HAN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quid can handle If-Modified-Since but is too dumb to deal with If-None-Match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ny requests with an If-None-Match bypass squi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8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Code in squidAcl.py is used to do this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ore things you should know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quid is not typically very useful for caching content from authenticated us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quidAcl.py causes squid to be bypassed if the user is authenticat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quid IS useful for caching images and files even if user is authenticat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ode in squid.conf that tells squid to always use the cache for files ending with .js, .css, .jpg, etc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ore things you should know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96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mages and Files get routed through CachingPolicyManager through a nasty metho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onkey patch associates them with DefaultCach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DefaultCache is an HTTPPolicyCacheManag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xisting caching policies assume that images and files may have security on them but are otherwise same for authenticated and anonymous user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ay be be possible to work around but will require some effort (weird use case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1240" y="149400"/>
            <a:ext cx="8607600" cy="15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rategy 5: Optimize Your Co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on't guess about what to optimize – use a profile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veral availabl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Zope Profiler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http://www.dieter.handshake.de/pyprojects/zope/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ll Profiler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http://zope.org/Members/richard/CallProfiler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age Template Profiler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89160" indent="-212760">
              <a:lnSpc>
                <a:spcPct val="116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http://zope.org/Members/guido_w/PTProfiler 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dentify and focus on slowest macros / call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de Optimization: Exampl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uppose you find that a portlet is your bottlenec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lendar portlet, for example, is pretty expensiv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ow to fix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dea: don't update calendar portlet every hi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Update, say, every hou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the result in memor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rve up the cached resul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imilar idea applies to other possible bottleneck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e6e6e6"/>
                </a:solidFill>
                <a:latin typeface="Times New Roman"/>
              </a:rPr>
              <a:t>Cache the most expensive pieces of your pag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RAMCacheManage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AMCacheManager is a standard Zope produc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s results of associated templates / scripts in memor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veats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n't cache persistent objec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n't cache macro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0">
              <a:lnSpc>
                <a:spcPct val="11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lendar portlet is a macro – how can we cache it?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rick: Caching Macro Outpu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Idea: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reate a template that renders the macro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output of template is snippet of HTML, i.e. a string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output of the templat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ing the Calenda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4240" y="1534680"/>
            <a:ext cx="877104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ep 1: Create a template called cache_calendar.pt:</a:t>
            </a:r>
            <a:br>
              <a:rPr sz="32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&lt;metal:macro use-macro=”here/portlet_calendar/macros/portlet” /&gt;</a:t>
            </a:r>
            <a:br>
              <a:rPr sz="2400"/>
            </a:b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ep 2: In the ZMI, add a RAMCacheManager to your site root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ep 3: in the RAMCacheManager, set the REQUEST variables to AUTHENTICATED_USER, leave the others as defaults (this caches one calendar per user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ing the Calenda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99840" y="1466640"/>
            <a:ext cx="8770680" cy="62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ep 4: Associate cache_calendar.pt with your new RAMCacheManager.  Output of cache_calendar.pt will now be cached for 1 hour.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ep 5: In your site's properties tab, replace here/portlet_calendar/macros/portlet with here/cache_calendar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oila!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se RAMCacheManager to cache output of slow scripts, etc.</a:t>
            </a:r>
            <a:br>
              <a:rPr sz="3200"/>
            </a:b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uture Direction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ake CacheFu more Apache-friendl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hould be possible to make CacheFu work without squid (currently only provides limited benefits)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General clean-up and polis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utogenerate squid config fil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ore unit test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Minor refactoring for simplifica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Let PageCacheManager use memcached</a:t>
            </a:r>
            <a:br>
              <a:rPr sz="2800"/>
            </a:b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Even bigger gains to be had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cheFu + squi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et up squi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stall squi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t up the squid.conf that ships with CacheFu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Adjust squid settings in the cache settings portle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0">
              <a:lnSpc>
                <a:spcPct val="116000"/>
              </a:lnSpc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un ab agai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Get 150 req/sec – 300 req/sec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6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~40x-80x fast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898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Future direction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769240" cy="54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or man's ESI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plit out chunks of page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ache them independently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Insert SSI directives in their place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57160" indent="-285480">
              <a:lnSpc>
                <a:spcPct val="118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Have Apache reassemble chunks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Header, footer, portlets, personal bar, etc could all be cached and invalidated separately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cheFu speeds up views – this could speed up 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everything</a:t>
            </a:r>
            <a:br>
              <a:rPr sz="3200"/>
            </a:b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5520" indent="-320760">
              <a:lnSpc>
                <a:spcPts val="3648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ponsorship welcomed!</a:t>
            </a:r>
            <a:r>
              <a:rPr b="0" i="1" lang="en-GB" sz="3200" spc="-1" strike="noStrike">
                <a:solidFill>
                  <a:srgbClr val="e6e6e6"/>
                </a:solidFill>
                <a:latin typeface="Times New Roman"/>
              </a:rPr>
              <a:t>  geoff@geoffdavis.ne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offrey Davis</cp:lastModifiedBy>
  <cp:revision>0</cp:revision>
  <dc:subject/>
  <dc:title>Make Plone Fast!</dc:title>
</cp:coreProperties>
</file>