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36500"/>
        <c:axId val="29489274"/>
      </c:barChart>
      <c:catAx>
        <c:axId val="31136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89274"/>
        <c:crosses val="autoZero"/>
        <c:auto val="1"/>
        <c:lblAlgn val="ctr"/>
        <c:lblOffset val="100"/>
        <c:noMultiLvlLbl val="0"/>
      </c:catAx>
      <c:valAx>
        <c:axId val="29489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6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811-B7C9-44F6-BDFB-AD2CE944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E2B-DE91-4500-9BCD-390EA35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129-A01F-432A-A2C9-35880FC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4D1-05A4-473E-A730-58B6F43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897-FCE6-4941-AB5D-97D4DF0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D23-F011-4BB2-A83A-A6DE44C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AAC-D45C-4D5E-8E56-CD45FA1E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507-0F89-4DD2-B7AB-7961535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AAB-A280-4C41-885B-DAD5D41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B69-E1E1-4427-8754-72D69BE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DC5-A950-4E29-8AE4-FC5DF65E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6F3-EC54-4C9C-8944-C3DD188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AB8F-1EE1-4765-B26A-634E6E13CE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