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10996"/>
        <c:axId val="87318373"/>
      </c:barChart>
      <c:catAx>
        <c:axId val="40910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18373"/>
        <c:crosses val="autoZero"/>
        <c:auto val="1"/>
        <c:lblAlgn val="ctr"/>
        <c:lblOffset val="100"/>
        <c:noMultiLvlLbl val="0"/>
      </c:catAx>
      <c:valAx>
        <c:axId val="87318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10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C2F-F68F-4A30-887B-15F4E99E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08E-F71F-4639-907B-94E76ED8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3AC-3F0C-4F01-BCAF-AE9C4B4F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12F-4A15-4727-A7D8-46601632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6FA-1328-4109-BEE6-01FA22EC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D8A-8A7D-45F8-9FAD-979A12AA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B05-3BF7-4E73-95F0-B602273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27F-6BEF-46BB-ACEA-0D38663A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118-884F-44F1-9081-8E2EF2C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AF3-7686-4997-84F0-FFAA8894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ACB-D126-4051-A07C-1A880B25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D2C-BF28-4846-BA8C-B23D72A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4F2B2-D4F0-4216-BCCC-BC75B6AEE1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