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67460"/>
        <c:axId val="20901805"/>
      </c:barChart>
      <c:catAx>
        <c:axId val="66767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01805"/>
        <c:crosses val="autoZero"/>
        <c:auto val="1"/>
        <c:lblAlgn val="ctr"/>
        <c:lblOffset val="100"/>
        <c:noMultiLvlLbl val="0"/>
      </c:catAx>
      <c:valAx>
        <c:axId val="20901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67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B7D-5995-4BD3-86FB-D1DFD6A1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717-F498-4183-9B4B-EC06E620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C8A-3A90-494C-9B7D-21ED9265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192-198C-4473-8F02-26A7ECEB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CBF-D30E-45B8-8A92-D20B520A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C18-A056-492E-87DC-C65F12A1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2F8-F839-4051-AD07-3BBADE1B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B1A-D9A1-45C9-9D13-731287BA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AE2-4FF5-47B6-83E0-E913CCE7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044-779E-4F28-ADFF-6BE9864A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88F-4579-41AD-A184-A7630CCA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779-B96F-44D9-A3B1-0422D33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3AD15-2A7F-42A4-93FC-C53F995CBF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