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0654532"/>
        <c:axId val="30088580"/>
      </c:barChart>
      <c:catAx>
        <c:axId val="8065453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088580"/>
        <c:crosses val="autoZero"/>
        <c:auto val="1"/>
        <c:lblAlgn val="ctr"/>
        <c:lblOffset val="100"/>
        <c:noMultiLvlLbl val="0"/>
      </c:catAx>
      <c:valAx>
        <c:axId val="3008858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65453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FF7F8-C973-4F69-A852-72543CC7A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AC64B-4A2F-48A2-B9E5-F38AE1303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79706-94FA-44C2-8EB9-8214E8BC9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5904D-EDDC-4CAD-B9E0-708A8583D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99536-C3D9-49EE-B204-356227CFE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578ED-AFAA-4C73-BE72-224D852A0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6016A-AAC3-4AAE-B673-DC91DC324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E17A5-94D0-407F-AF1C-9406CC6CA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885F7-C479-4080-ADFB-E7759B8E9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A11B8-88F5-4885-8B9C-3C46969F9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5E1AD-7FE2-4E30-A7C6-E87E948A0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4BA2D-6E20-4266-A98F-021C5B596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12C231-911E-41A4-8D39-B5264A68781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