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266113"/>
        <c:axId val="24987989"/>
      </c:barChart>
      <c:catAx>
        <c:axId val="35266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87989"/>
        <c:crosses val="autoZero"/>
        <c:auto val="1"/>
        <c:lblAlgn val="ctr"/>
        <c:lblOffset val="100"/>
        <c:noMultiLvlLbl val="0"/>
      </c:catAx>
      <c:valAx>
        <c:axId val="24987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66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CBA-FC7F-4008-8FD2-B1119959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F72-0B9C-4EAB-8023-D0D62710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E07-6822-4784-A051-BBE49003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459-2A16-41C2-9B43-74CDD84A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6EF-C2ED-4B19-915E-25260A39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AEF-1561-47D9-820F-FFDD7CE2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DEA-BB3C-45BC-8FA5-F20B79BC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803-D3D3-4BF5-A5DB-0C0DE40C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B843-DADB-47AB-9430-0E4CD79D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C04-5E90-4B30-9DD3-97277B31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E685-CC15-4C55-A340-BF54E005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4C3-27EC-4A86-AEA1-B8E03083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4C375-8AD9-40D9-850C-07D77E2AE0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