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8175"/>
        <c:axId val="68922638"/>
      </c:barChart>
      <c:catAx>
        <c:axId val="12718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22638"/>
        <c:crosses val="autoZero"/>
        <c:auto val="1"/>
        <c:lblAlgn val="ctr"/>
        <c:lblOffset val="100"/>
        <c:noMultiLvlLbl val="0"/>
      </c:catAx>
      <c:valAx>
        <c:axId val="68922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8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8D4-9248-4374-AEDE-D5B52C96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DBF-AEB9-472D-B148-94712F9B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353-E53D-46C7-AC19-8B7FCC46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877-450A-421C-AAF8-4AFE687F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61A-A8BF-4794-8334-9C844130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5C6-531F-4DE8-8396-87411C7A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A16-BC45-4E93-B9A6-3BC7755D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152-A624-45BF-8351-29CE3F2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73C-D43F-4DFA-9B4B-3F5DA83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A09-C35E-4867-95D7-C3F879E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C2C-5EF7-4F9A-B240-577BB38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F35-171B-46FF-A269-CB32B11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2B930-7046-447D-BCAA-D5C3834CD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