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42901"/>
        <c:axId val="61030313"/>
      </c:barChart>
      <c:catAx>
        <c:axId val="11342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30313"/>
        <c:crosses val="autoZero"/>
        <c:auto val="1"/>
        <c:lblAlgn val="ctr"/>
        <c:lblOffset val="100"/>
        <c:noMultiLvlLbl val="0"/>
      </c:catAx>
      <c:valAx>
        <c:axId val="61030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42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946-8C98-448F-ADAE-ED127B9C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1A7-EDD4-4594-A065-979C0541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DAD-D763-412E-9FB6-534D7215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43E-9CC6-446E-883D-018F10A8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C16-2392-46E6-93B3-DA57C0C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81A-43A4-4B9B-AFAC-8977BD3A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FAF-8612-4C5F-8CD5-F89DC942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AF8-443E-4A77-8715-BB51AD88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53E-A829-4613-A7D0-23150B6F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3A3-4523-4C3C-98A7-A100F04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64E-6DDF-425F-8675-1A6E9D6F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DAF-4AF9-4E58-A346-C1433876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92B4C-DD39-4BE5-970F-1F5EA4F327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