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2471"/>
        <c:axId val="88593806"/>
      </c:barChart>
      <c:catAx>
        <c:axId val="4882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93806"/>
        <c:crosses val="autoZero"/>
        <c:auto val="1"/>
        <c:lblAlgn val="ctr"/>
        <c:lblOffset val="100"/>
        <c:noMultiLvlLbl val="0"/>
      </c:catAx>
      <c:valAx>
        <c:axId val="88593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2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CE1-32A5-4D11-825D-91CE882D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982-93C1-44D2-A736-44901459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4E8-C7AB-48A2-9912-9B4B7745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A13-4E6B-426A-9C37-82ED5409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52A-4B87-443F-9FF6-F6AF47F5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B23-7120-4862-A899-52213B12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A05-9D5B-4823-B8D6-391AA8AE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F82-9B02-4C75-8961-9416A636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0FC-00F3-405E-A284-78F5B683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132-0ACD-44AE-99A2-95CBA2A9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85F-1878-4933-84F5-59EE3B45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EFA-1FBF-4A0A-97B3-2221D2C2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0FA59-3906-4386-99E2-495FF23685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