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49449"/>
        <c:axId val="70405039"/>
      </c:barChart>
      <c:catAx>
        <c:axId val="23449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5039"/>
        <c:crosses val="autoZero"/>
        <c:auto val="1"/>
        <c:lblAlgn val="ctr"/>
        <c:lblOffset val="100"/>
        <c:noMultiLvlLbl val="0"/>
      </c:catAx>
      <c:valAx>
        <c:axId val="70405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9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5AD-A390-484E-A9A1-0C63352A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BA6-A6BC-463B-B3CB-5193124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6A2-4BEA-450E-B2F5-C9491A0B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A6-EAB0-43BA-A2A4-8B520159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48A-480A-40DC-B1E0-B1DC78E4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04C-2B89-4986-A80C-73BCDAD1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FB-A515-4A9A-A119-9140107D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66C-AB2A-469C-8E13-981CD36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9CA-34C7-4F44-AEFD-F05BDFF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B85-54F8-49AB-BFFB-4D81B31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B30-6B2C-41C6-8737-9F55942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05F-30B3-47A7-A425-679A58C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51AF0-5456-4DA7-87C0-F86EC1F1C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