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00500"/>
        <c:axId val="89277712"/>
      </c:barChart>
      <c:catAx>
        <c:axId val="52900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77712"/>
        <c:crosses val="autoZero"/>
        <c:auto val="1"/>
        <c:lblAlgn val="ctr"/>
        <c:lblOffset val="100"/>
        <c:noMultiLvlLbl val="0"/>
      </c:catAx>
      <c:valAx>
        <c:axId val="89277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00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314-AE06-431C-8C4A-D3BD4E5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EE3-40D9-41B4-A0FB-24D88F9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FE3-A3BD-453D-A1C0-550263B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BCA8-1DDF-47D3-B1A6-C66B46D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242-3A09-45FE-9F6C-7144069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159-2B9E-4679-A149-C01A6A45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3AD-0A9C-449E-BA94-D962FC0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2D8-B378-4F4D-82F4-211D993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D6A-C40B-4136-803C-B41EEFC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6A8-0568-4C6D-81B2-342A591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F0C-794B-44BE-8615-F59A9DB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AC2-B76A-4224-84A3-582F53EA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88EF1-BF33-49AC-AC26-7E8B876A1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