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15402"/>
        <c:axId val="37171194"/>
      </c:barChart>
      <c:catAx>
        <c:axId val="75015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71194"/>
        <c:crosses val="autoZero"/>
        <c:auto val="1"/>
        <c:lblAlgn val="ctr"/>
        <c:lblOffset val="100"/>
        <c:noMultiLvlLbl val="0"/>
      </c:catAx>
      <c:valAx>
        <c:axId val="37171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5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331-B4E4-4CA3-9296-526099EF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557-F9B7-45C7-ADF7-70D32822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189-F9C8-4E49-9121-77A3660C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E78-97C5-4C05-A626-99334FB7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859-29C7-4F20-A7D3-1CC09A4D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3CA-D7B4-4782-B9B4-A4FCABF7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D2D-B7E7-4757-9186-7A3C3693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36C-03A4-4A36-9A23-148BB59E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2B0-A074-462D-9929-0FA8A3A1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60B-6747-48B0-8A6E-F2FD9C6A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7C1-0FDF-4595-AAC2-E27DF141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6D6-BF91-475F-82CE-ED1040F8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49669-6B48-4434-83AA-98CC3C6BB2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