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13951"/>
        <c:axId val="11120789"/>
      </c:barChart>
      <c:catAx>
        <c:axId val="981139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20789"/>
        <c:crosses val="autoZero"/>
        <c:auto val="1"/>
        <c:lblAlgn val="ctr"/>
        <c:lblOffset val="100"/>
        <c:noMultiLvlLbl val="0"/>
      </c:catAx>
      <c:valAx>
        <c:axId val="11120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139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FED-5804-48C8-B02E-0B0321FD7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8861-6535-46E4-938F-1BD2F77C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E015-FC7B-4383-8843-3CC103CB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97E-EE8E-4065-9D17-E963DED7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9A5F-1015-41F3-B5B6-F3861088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BEE-2988-4B5F-8F21-5C5343EC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A7B5-4616-4F6A-8093-510E24C6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00D0-E449-42C0-A6C4-20D2321C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4C01-23B7-48AF-BF35-D2900689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9116-4EC7-4B34-AA6C-9768233E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6576-9824-4983-B258-0EBFC608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6C01-DA80-437B-8F62-B12F952B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E51CD-D117-4942-9BDA-C4497C786C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