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21897"/>
        <c:axId val="84986110"/>
      </c:barChart>
      <c:catAx>
        <c:axId val="87121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6110"/>
        <c:crosses val="autoZero"/>
        <c:auto val="1"/>
        <c:lblAlgn val="ctr"/>
        <c:lblOffset val="100"/>
        <c:noMultiLvlLbl val="0"/>
      </c:catAx>
      <c:valAx>
        <c:axId val="84986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21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540-36AC-481E-B207-282C009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EE6-BF0C-4B5D-BD6C-672053E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BDC-8101-4375-8416-FD50F8C5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6AE-0E09-42AE-977E-706C0928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138-F30B-4150-9CFA-BA68365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BC1-03BC-488A-B66F-197565E9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EC4-D64A-42F6-A410-93A32AD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3C8-D363-435C-B7C4-249AB5D3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72C-B22A-46C2-ACCF-8F5B788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DBE-1C5C-4046-BCD7-6BC1DA79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5AB-B8FD-4C86-A9D5-B74AECAC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5B5-080C-4776-82F8-6273697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0586C-3732-437F-A78B-64929DCDFF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