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5168"/>
        <c:axId val="30044183"/>
      </c:barChart>
      <c:catAx>
        <c:axId val="1205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44183"/>
        <c:crosses val="autoZero"/>
        <c:auto val="1"/>
        <c:lblAlgn val="ctr"/>
        <c:lblOffset val="100"/>
        <c:noMultiLvlLbl val="0"/>
      </c:catAx>
      <c:valAx>
        <c:axId val="30044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5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EF4-E8FA-41EC-9F4E-58D3F6FB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575-BD8B-4055-84BE-6B22A14E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7A2-0D5D-441D-A1BA-7BF32E97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BFC-E3F7-47B1-AE59-9F896BA8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218-725F-4D70-98F0-9FEECBFF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898-BDAB-49A1-946E-88FD3F2B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DCD-440C-41E9-A2C3-04EC7BD6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158-243A-4919-A32B-1B05B030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E95-1BFA-4350-9FA6-B120D927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9E7-4E2B-4214-85F4-B0031583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976-3AC2-47FB-BEBE-B7EB67B8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494-3A35-4894-9F5A-2D71D7B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E5523-973B-48BE-A3EE-EFA1B7E150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