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73647"/>
        <c:axId val="71345096"/>
      </c:barChart>
      <c:catAx>
        <c:axId val="77873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45096"/>
        <c:crosses val="autoZero"/>
        <c:auto val="1"/>
        <c:lblAlgn val="ctr"/>
        <c:lblOffset val="100"/>
        <c:noMultiLvlLbl val="0"/>
      </c:catAx>
      <c:valAx>
        <c:axId val="71345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73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E27-8140-4B07-B400-9B4529E3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69D-2F6C-4CB2-8FAC-842B4F50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1A4-3734-4FBE-AE2B-BA6A147C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FBA5-E82A-4BDF-87A4-23E2516B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2FC-4BCA-4C72-9DB9-D4E80810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A6B-43F3-4775-BD87-3F713BA4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D7E7-0DE7-4551-81B0-2D90E91EA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6E5D-DE7B-498D-BC33-D77B9D61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3F9A-16DB-49F6-A5AD-4194201D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C794-B36E-4E8C-8CBF-8C082923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61CD-CB98-445E-80A3-E34D58DC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85B9-B25E-4CD3-8217-E0D38F89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18010-316C-455D-82F1-1E72607265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