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88346"/>
        <c:axId val="77495803"/>
      </c:barChart>
      <c:catAx>
        <c:axId val="236883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95803"/>
        <c:crosses val="autoZero"/>
        <c:auto val="1"/>
        <c:lblAlgn val="ctr"/>
        <c:lblOffset val="100"/>
        <c:noMultiLvlLbl val="0"/>
      </c:catAx>
      <c:valAx>
        <c:axId val="774958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883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467-91F2-47F7-AAFC-45FF74DE0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95C3-3ECD-4CF0-845E-E7761301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BDD-44D3-4C93-8EF7-0B338F86E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629B-5DCA-4C4E-BD38-3BB4B75F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557-61FF-48D4-BC23-3C9569FB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50A-0B68-4B75-9361-895F3781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80B2-7516-4A3D-8316-34507AF8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1ED7-3BB1-449F-8C33-1581B4AD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EE8-C655-41CE-A511-7B95A3FA2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48D-9147-44AF-ACDB-9C2ABAB9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F0A-4C8A-4256-82B7-D13F7FFB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54D3-D8A6-4EEC-9306-BC6030F4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53C05-5689-4454-B23B-FAF9848480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